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5BC3-70BE-471B-98B6-430537653D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E5D8-6A8E-4D48-9E5D-AE8DA55F75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1053-7B34-423B-BC19-901E788CA8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4DAB-6724-4DA8-9043-6019B9C1A3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3C16-83BF-4DCA-B298-9D18AA751F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6C48-2408-4449-872B-DE6C1F678E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8338-C0A7-43F2-AED7-A6866C979B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E179-190B-46E3-AB05-BC6B7A6AA1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0E40-51E2-4728-B4E7-E7BB0DC38B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C40D-92E4-49A4-A923-D1CDC33BB4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E69-D8F0-43C8-A360-39C08877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D23-7395-4BC3-97D6-0232DE49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B7E-24E7-4D41-9B0E-5CC85724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CA8-2792-4963-A928-AB70FCBE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6DE-6E93-4C7B-8E8F-85A5CA0D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0F0-2836-4814-B3CF-C84E52D2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009-E758-419C-850B-C4D0F037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0AE-871C-4BCB-B970-901D4677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2E4-488E-41A1-8DA7-E05C14CF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AEB-CCBA-4F2C-8A81-F171BF7E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F64-805A-4073-8CB0-23286B79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EC5-DE67-47FA-9C96-F21BD2DE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073F-E838-4D32-9299-4583611D3A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ppered Moth-Evolu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ntent Placeholder 1"/>
          <p:cNvSpPr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1976- 1979, a survey of the town showed that of the 972 specimens collected, 25 were of the light speckled var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clear indication that the peppered moth is again in the process of changing its color once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pepfig1c.gif - 27266 Bytes"/>
          <p:cNvPicPr/>
          <p:nvPr/>
        </p:nvPicPr>
        <p:blipFill>
          <a:blip r:embed="rId1"/>
          <a:stretch/>
        </p:blipFill>
        <p:spPr>
          <a:xfrm>
            <a:off x="5292720" y="4229280"/>
            <a:ext cx="315756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600200" y="0"/>
            <a:ext cx="6781680" cy="6726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quencies of two forms of peppered moths in the 19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tural Selection in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st mutations produce inferior versions of an original ge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ome mutations allow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adaption to a changing environ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ometimes mutant alleles give a mutated organism a </a:t>
            </a: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selective advant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hanges in the environment can b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- abiotic factor (e.g. pollu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- biotic factor (e.g. diseas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ustrial Pollution and the 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forms of peppered m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724640" cy="3495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281952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melan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eppered M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ypes differ by only one allele of the gene forming dark pigment (melan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th forms fly by n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th forms rest on trees during the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or to Industrial re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37432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 18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ght form common throughout Bri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rk arose by 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very r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510552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peppered mot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219320"/>
            <a:ext cx="5329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non-polluted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tree trunks covered with pale colored bark (birch tre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th well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gainst pale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rk form easily seen and eaten by pre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671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rvey in the 195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447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le moth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non-industri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rk moth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abund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reas suffering from heavy air-pol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pepfig1a.gif - 18860 Bytes"/>
          <p:cNvPicPr/>
          <p:nvPr/>
        </p:nvPicPr>
        <p:blipFill>
          <a:blip r:embed="rId1"/>
          <a:stretch/>
        </p:blipFill>
        <p:spPr>
          <a:xfrm>
            <a:off x="5219640" y="4229280"/>
            <a:ext cx="3124440" cy="262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rcRect l="0" t="20446" r="0" b="6374"/>
          <a:stretch/>
        </p:blipFill>
        <p:spPr>
          <a:xfrm>
            <a:off x="5292720" y="1557360"/>
            <a:ext cx="25923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ason for chan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681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polluted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oot particles darken tree tru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k colored well hidden and favored by natural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colored moth easily s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278320" y="1676520"/>
            <a:ext cx="3417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ppered Moth-Evolution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ntent Placeholder 1"/>
          <p:cNvSpPr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50 man interceded again with the passage of smoke control laws in England and the land once again began to be green once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pepfig1b.gif - 22175 Bytes"/>
          <p:cNvPicPr/>
          <p:nvPr/>
        </p:nvPicPr>
        <p:blipFill>
          <a:blip r:embed="rId1"/>
          <a:stretch/>
        </p:blipFill>
        <p:spPr>
          <a:xfrm>
            <a:off x="2843280" y="3467160"/>
            <a:ext cx="3600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3:54Z</dcterms:created>
  <dc:creator>hhashmi</dc:creator>
  <dc:description/>
  <dc:language>en-US</dc:language>
  <cp:lastModifiedBy>St. Aloysius</cp:lastModifiedBy>
  <dcterms:modified xsi:type="dcterms:W3CDTF">2013-02-07T19:36:07Z</dcterms:modified>
  <cp:revision>7</cp:revision>
  <dc:subject/>
  <dc:title>Natural Selection in Action</dc:title>
</cp:coreProperties>
</file>